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C41-33D6-4BBD-BE7D-48A97841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8C0-0287-4D07-A2CA-CFB63A0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81A-8F86-412E-BD49-D4CC18E6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9C5-A4A6-4602-84F0-80830C7F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7D0-32F3-41A5-9030-F0935A32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C52C-87BF-48E7-AB43-0E934E9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CC07-A1A0-4A2A-9A21-D35A4533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0982-29C4-4FD9-B0E5-685334A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6742-932D-49FB-A733-91B3195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92A5-EC32-4150-A8F2-A1249F4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39D2-CED4-4736-87A7-9835313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BC1-18EB-4251-A306-6CA2DBB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F18-3C41-4E2C-A572-25E4D6F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F109-2C6D-4D24-807D-34DE244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B3B-2876-4BE8-8C61-D48D6BDB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3FAD-A6C9-44CD-86DC-74AE816C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9D54-48FB-46BB-8B12-5D15DDA7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4EB-B3DE-4831-A98E-301FED55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010-C5A3-4412-B6AE-57EC7F8F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FE4-18BC-4894-BCAA-8B382265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394-7FBE-40D3-A7E8-6B55EEF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EDF-44FC-4852-A8B7-0B3D0BB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417-D56F-4C6B-9F45-57B98D1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A02-FC9C-46A5-8365-450C657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C6A-21CD-40E9-AE89-C77F6A147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0CBB-3B94-4DF8-A165-84D1D238C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Мелкие млекопитающие- постоянные обитатели живого угол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50920" y="3284640"/>
            <a:ext cx="5077080" cy="3409920"/>
            <a:chOff x="2050920" y="3284640"/>
            <a:chExt cx="5077080" cy="3409920"/>
          </a:xfrm>
        </p:grpSpPr>
        <p:sp>
          <p:nvSpPr>
            <p:cNvPr id="84" name=""/>
            <p:cNvSpPr/>
            <p:nvPr/>
          </p:nvSpPr>
          <p:spPr>
            <a:xfrm>
              <a:off x="2087280" y="3321360"/>
              <a:ext cx="5003640" cy="333612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3284640"/>
              <a:ext cx="5077080" cy="340992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бег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143160" cy="4305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34988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реде обит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назем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ес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34000" y="2565360"/>
            <a:ext cx="441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3168360" cy="187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826920" y="4381560"/>
            <a:ext cx="2881440" cy="2476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56000" y="1052640"/>
            <a:ext cx="792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105264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8000" y="40464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внешнему ви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лоса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ятн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73640" y="2133720"/>
            <a:ext cx="3870360" cy="381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30640" cy="4748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3058920" y="836640"/>
            <a:ext cx="649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907920"/>
            <a:ext cx="6494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5000"/>
            <a:ext cx="6480360" cy="4351320"/>
            <a:chOff x="1187280" y="2205000"/>
            <a:chExt cx="6480360" cy="4351320"/>
          </a:xfrm>
        </p:grpSpPr>
        <p:sp>
          <p:nvSpPr>
            <p:cNvPr id="145" name=""/>
            <p:cNvSpPr/>
            <p:nvPr/>
          </p:nvSpPr>
          <p:spPr>
            <a:xfrm>
              <a:off x="1233720" y="2251800"/>
              <a:ext cx="6386400" cy="42570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05000"/>
              <a:ext cx="6480360" cy="435132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- теплокровные животные. Это означает, что температура их тела остается неизменной независимо от температуры воздуха или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Живая природа- это удивительный, сложный, многогранный мир. Особое место в нем отведено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Животный мир является одним из основных компонентов природной среды, важной составной частью природных богатств нашей Родины. Он служит источником для получения промышленного, лекарственного сырья, пищевых продуктов и других материальных ценностей, необходимых для удовлетворения потребностей населения и народного хозяйства. Животный мир используется также в научных, культурно- просветительских и эстетических цел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5640" y="5253120"/>
            <a:ext cx="2411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Биоэкологическая характеристика класса млекопитающи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 имеют ряд отличий от других представителей подтипа Позвоноч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Их тело покрыто шерст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Практически все звери имеют зуб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Весьма совершенны органы чувст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 выкармливают детенышей молоком, за что и получили соответствующее наз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Их поведение сложнее, чем у других позвоноч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Лучше выражена способность к обучению и общению друг с дру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ласс млекопитающих подразделяются на три подкласс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Низшие звери,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куда входят только два рода: Утконос и Ехидна; откладывают яйца, но выкармливают детенышей моло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умчатые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, которое рождают крошечных детенышей и затем вынашивают их в специальной сумке на живо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Высшие звери (Плацентарные),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которые вынашивают детенышей в специальном органе-матке-до тех пор, пока они не станут достаточно зрелыми; для этого в матке формируется временный орган-плацента, с помощью которого зародыш получает питательные вещества из крови матери; этот орган и дал название всему подклассу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Подкласс Плацентарные делится на несколько отрядо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секомоядные (еж, землеройк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Грызуны (мыши, крысы, белки, бурундуки, полевки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Зайцеобразные (зайцы, кролик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озоленогие (верблюды дву-, одно- и безгорбый, лам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Парнокопытные (коровы, козы, овцы, олени, жираф, бегемот и п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епарнокопытные (лошади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Ластоногие (моржи, тюлени, морские льв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84720" y="5203800"/>
            <a:ext cx="22672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Китообразные (киты, дельфин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Хоботные (слоны индийский, африканский, вымершие мамон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Обезьяны, или Приматы (шимпанзе, горилла, мартышк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укокрылые (летучие мыши, вампир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Хищные (семейства волчьих, пантер, медвежьих, куньих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екоторые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етям дошкольного возраста знакомы представители всех выше названных отря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16360" y="4392720"/>
            <a:ext cx="3671640" cy="2465280"/>
            <a:chOff x="2916360" y="4392720"/>
            <a:chExt cx="3671640" cy="2465280"/>
          </a:xfrm>
        </p:grpSpPr>
        <p:sp>
          <p:nvSpPr>
            <p:cNvPr id="98" name=""/>
            <p:cNvSpPr/>
            <p:nvPr/>
          </p:nvSpPr>
          <p:spPr>
            <a:xfrm>
              <a:off x="2942640" y="4419360"/>
              <a:ext cx="3618360" cy="24120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6360" y="4392720"/>
              <a:ext cx="3671640" cy="24652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лассификации мелких млекопитающих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На основе взаимосвязи с челове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Домашние                                             ди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1671480" cy="19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771640" y="2924280"/>
            <a:ext cx="2160720" cy="17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4826160"/>
            <a:ext cx="511344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04240" y="2741760"/>
            <a:ext cx="2039760" cy="411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364000" y="3933720"/>
            <a:ext cx="1722600" cy="138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92800" y="268272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186920" y="2205000"/>
            <a:ext cx="863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4000" y="220500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пособу пит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хищ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растительноя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041560" cy="530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140796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2627280" y="907920"/>
            <a:ext cx="649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90792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пособу передвиж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ет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038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аз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398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185076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75440" y="4221000"/>
            <a:ext cx="2068560" cy="230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2627280" y="112536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052640"/>
            <a:ext cx="719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8:33:10Z</dcterms:created>
  <dc:creator>XTreme</dc:creator>
  <dc:description/>
  <dc:language>en-US</dc:language>
  <cp:lastModifiedBy>XTreme</cp:lastModifiedBy>
  <dcterms:modified xsi:type="dcterms:W3CDTF">2010-05-31T20:07:15Z</dcterms:modified>
  <cp:revision>3</cp:revision>
  <dc:subject/>
  <dc:title>Мелкие млекопитающие- постоянные обитатели живого уголка</dc:title>
</cp:coreProperties>
</file>